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34A-ACFB-4F2A-8200-038791E7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5DF-B718-4A92-8A2E-FB88C6F8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27E-0042-4180-933A-5EF8A104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59F-6B34-442F-9114-9B8CADD1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EA6A-0009-4B78-AC22-ED9E06B3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10B0-0CE7-43E1-867E-73A2CDB5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A6CB-8BBB-4608-8B84-AAA507F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5B04-448C-4874-A784-688FC43A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4D85-E9E4-4D1D-B342-FD907BDD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A42B-543B-430C-B8B0-AC70017D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C9AC-36BB-4ABB-B462-08C1840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12A-A60E-4B79-AE7F-9F20A722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E9CF-2A8A-4E03-8AA0-EC49E773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7F78-9AFB-4A6B-ACE7-1730D74C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7ABE-5707-485B-86F0-7F0EC577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002D-CA31-48FA-A0FA-C805E392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8F69-9F66-4AF4-904C-70CCFCA3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41A4-4800-46B9-8B65-2F62E3A5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8F1E-CBDB-4F5C-8D53-AA0F809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BAB0-8F3A-4792-9761-3CF144BE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4AD86-3E06-489F-87DF-DD780906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0B13-B7E2-4A5E-A107-01FC2A42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D63-97E0-464B-9BC2-C57B614A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7ADC-C453-4C64-A783-40CB1A56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B644-1211-4279-9D5A-848D6AB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504CD-06D7-4ADB-BB31-5628A6F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5589-D5DD-48DD-A413-663566B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1154-7B57-4210-BA47-DDA5C681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75AB-8E85-4AB0-A8D1-304D7E51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28E8-A308-4D89-B835-1C370286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B624-25F5-4A30-87CF-EF6AAB41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E23A-66E0-4092-8E21-9CFC6B9C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4371-8811-4785-9F15-0F7175CF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1CB-7751-408E-B0AE-4731752A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88B1-05CD-42C8-8AFE-045A0BA9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BE61C-8879-4D16-8A6E-8645A62F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4C317-AF2D-4219-AF5B-1C6DCDD1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3219-0B7F-4E6B-A9B3-B6B5EF6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EDEBF-3448-49D1-A75B-C2ECE39B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1556-38D4-48F9-BC4B-6A059696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9ECC-E371-4330-9083-EA0B67FD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98BC-D214-4168-A6DE-0B3443E7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6804E-624E-4671-BF6A-B04406B3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00307-3E5C-4775-994F-592AAB16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437-18AC-409F-9FE8-E52B3B8F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1EF4C-ACD6-4A81-86AB-A933A9D5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8DE9D-E121-4B64-A477-7BEA6C5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7BDC-1423-40E4-84C5-2228568D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B558-5691-43BB-AD13-5949CCDF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EC4D6-5210-405B-B915-8250419D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2B58E-2512-4E06-88EC-CE608CD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C6AF3-ECB7-4685-9CA3-175B6337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5A6DB-2E24-4A39-8208-9931928D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CF1A-2FDA-47EA-BC67-34DB9577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84E50-C02F-443B-9B47-A39F4932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81B-AECB-4020-A389-415E8C86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3BA53-CB13-44F2-BCFA-266D37AF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4E0C3-39FA-49AC-9F0A-844C4F2D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CA5B8-6AEE-4B0E-ABB8-DC9C7B82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0375-56D4-4B54-B73A-AF0DF795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8E31-631D-454F-8B1F-4743DF22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76489-0884-4417-9185-5DEFC991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E5E90-04B7-4080-A410-DA39E968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3D4F-90DD-48CF-BB79-E82EC73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A32F4-D392-448A-AB18-7C7B3E43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1A3B9-C7FC-42C6-AA53-B113F81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91F-7573-43E8-9F37-57824ABC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F1DC0-8321-4046-94AA-70DE96CC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BEF24-703D-4A71-9864-47FCF58B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85341-528C-4893-9CC4-28AFB8E6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A202A-B30F-48DB-B711-C99A39C3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7B623-38BC-484B-AF2A-B41AF6FB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B79CE-ECE3-4CE7-814B-FAC051BF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95D67-B24C-415D-9498-B7D6901C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C0A66-D478-4B17-B4F6-47D982B9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A8E97-FF67-47B1-91DB-7E6025AE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FBB98-CF8D-4E8D-946E-9F7D372F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1C5-B4F4-4933-98F9-F58EF20D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6BB9D-CD06-4FF7-AA96-996662FF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0295-54D1-4C02-9F68-BADB798C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C426-CD1F-4CF7-8274-80F1DFB5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A7F0C-A64D-40B6-B2C0-81BA1AEB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27007-D842-4F31-9C9B-79C1E3FC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3DE-0E91-4F4C-A88B-C298C78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C25E-DE8C-41F2-B5ED-91412F533A7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9999-16DE-42DA-8F6D-00D73A3964E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6C56-2530-4D5C-B28A-B0376A11C4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1C6-F68E-4778-9B0A-2E6674ABEA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393E-0314-46F9-ADBB-366E9CC205F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FFD6-0D8D-44E7-ADD8-FB6A777D040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4FA2-C293-48ED-A78F-2A2682361DE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Матур итеп елмайдык та, дәресне башлыйбыз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900000" y="21366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рдәмл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үгәрәк саннан 1дистә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стәләр 1 гә к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 нан берәмлекләрне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лган дистәләрне һәм берәмлекләрне кушабыз да җавап язабы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4678200" cy="34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Математиканы, дуслар,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Яратмыйча һич ярамый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төгәл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ирәк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ызык фән –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у  математика!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5724360" y="263700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80ff"/>
            </a:outerShdw>
          </a:effectLst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+ в + с = 12( см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= ?      в = ?       с = 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763640" y="3429000"/>
            <a:ext cx="165600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ая соединительная линия 6"/>
          <p:cNvSpPr/>
          <p:nvPr/>
        </p:nvSpPr>
        <p:spPr>
          <a:xfrm flipV="1">
            <a:off x="3419640" y="3644640"/>
            <a:ext cx="1223640" cy="863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ая соединительная линия 8"/>
          <p:cNvSpPr/>
          <p:nvPr/>
        </p:nvSpPr>
        <p:spPr>
          <a:xfrm>
            <a:off x="4643280" y="3645000"/>
            <a:ext cx="1800360" cy="1368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 = 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Прямоугольный треугольник 4"/>
          <p:cNvSpPr/>
          <p:nvPr/>
        </p:nvSpPr>
        <p:spPr>
          <a:xfrm>
            <a:off x="1854360" y="3357720"/>
            <a:ext cx="1944360" cy="2135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ый треугольник 5"/>
          <p:cNvSpPr/>
          <p:nvPr/>
        </p:nvSpPr>
        <p:spPr>
          <a:xfrm>
            <a:off x="1933560" y="3957480"/>
            <a:ext cx="44640" cy="119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971640" y="184464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 – 7    төрендәге мисаллар чишәргә өйрәнү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Счетные палочки"/>
          <p:cNvPicPr/>
          <p:nvPr/>
        </p:nvPicPr>
        <p:blipFill>
          <a:blip r:embed="rId1"/>
          <a:stretch/>
        </p:blipFill>
        <p:spPr>
          <a:xfrm>
            <a:off x="357120" y="404640"/>
            <a:ext cx="8358120" cy="5953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чет"/>
          <p:cNvPicPr/>
          <p:nvPr/>
        </p:nvPicPr>
        <p:blipFill>
          <a:blip r:embed="rId1"/>
          <a:stretch/>
        </p:blipFill>
        <p:spPr>
          <a:xfrm>
            <a:off x="179280" y="404640"/>
            <a:ext cx="8358120" cy="601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324000" y="1285920"/>
            <a:ext cx="846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= 20 + 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-7= (20 + 10) – 7 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0 + (10 – 7) =  20 + 3 = 23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70 - 5             100 - 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80 -  4            100- 9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1181160" y="1900440"/>
            <a:ext cx="72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3” кә – карточка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4» кә – карточка №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5” кә –( мәсьәлә чишәргә кирәк)карточка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Ә аннары комп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ютерда тест үтәргә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6:56Z</dcterms:created>
  <dc:creator>Олег</dc:creator>
  <dc:description/>
  <dc:language>en-US</dc:language>
  <cp:lastModifiedBy>Макаров</cp:lastModifiedBy>
  <dcterms:modified xsi:type="dcterms:W3CDTF">2011-11-25T02:15:05Z</dcterms:modified>
  <cp:revision>49</cp:revision>
  <dc:subject/>
  <dc:title>Приемы вычислений для случаев вида: 30-7</dc:title>
</cp:coreProperties>
</file>